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BA2-CDC6-442E-99DD-51543B46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9EB-ED09-4DE1-B8EA-62579F1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F87-B77B-4D63-8563-506EFCB9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685-748D-4360-8CC1-E9140782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E30-23E8-4FD1-AA23-22E359FE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B06-859C-4E7E-B017-1EAD2E27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139-17CA-4489-80BB-05ACBBC4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B59-515D-4E17-B6B8-3FA56DBC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2A0-D69F-4257-8F4D-1770EF4E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8C0-0E19-4021-9A88-4FC31FD0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60E-0096-4E1B-AE01-D8CE17F3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465-7737-48C9-820D-AB9B2B45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081D-C896-42D8-BD64-06C425242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443819/index.html" TargetMode="External"/><Relationship Id="rId2" Type="http://schemas.openxmlformats.org/officeDocument/2006/relationships/hyperlink" Target="http://www.screenonline.org.uk/film/id/442547/index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itish Asians in Cin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s: to explore the history and issues around Asian representations in UK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were some of the traditional Indo-Asian stereotypes we discussed earli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working and stud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ong sense of family- close k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at Maths (and crick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/status orient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gious/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nged marri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ive (except for terror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ould be said that British Asian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der-represen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other areas of the media notably, film and music. What were some of the reasons for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som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of the criteria of the Media and Collective Identity unit is 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explore how contemporary representations compare to previous time period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tish Asian representations in the media have until recently been quite stereotyped, focussing on Asian cultu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from the outside looking in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an characters on TV were in the 1960s and 70s often played by white actors  who ‘browned up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the documentar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‘A Brimful Of Asia’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looks at the history of Asian representation on TV. Make some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ical film examp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: watch these clips from the following fil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’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y Beautiful Launderette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1984) (evi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reenonline.org.uk/film/id/443819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y Beautiful Launderette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rtrayed the lives of Asian immigrants to Britain in the 80s and their attempts to open businesses and prosper in Thatcher’s Bria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ome notes on the sheet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haji on the Beach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1992) (off to Blackp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creenonline.org.uk/film/id/442547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haji on the Beach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flected the early 90s Asian experience. It looked at how ‘second generation’ Asians, born in this country dealt with cultural integration and being a ‘British –Asian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ome n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East is East’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ast is East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recent film depicting an Anglo- Pakistani family in the north of England during the mid 197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‘period film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t in the past making it difficult to compare with films that represent contemporary British Asian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as the film was made in the last ten years it does represent some central themes and ideas that are still prevalent to British Asian cultur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lm depicts a more culturally ignorant, racist Brit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the idea of a culturally segregated north is still relevant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slim faith clashing with British culture is the central theme of the film and is seen in many sc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East is East’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nd the culture cla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57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atch the opening and make notes on the representation of British Asian culture. Consider the idea of cultural hybridity and cultures clas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ning Christian pa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ybridity of traditional Pakistani and traditions and British northern life through mise-en-sc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nglish boy saying ‘salaam malykum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on not wanting to go through with the arranged marri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ther wanting his children to maintain Muslim traditions- arranged marriages, going to the mosque, circumcision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ldren have mixed views on the Muslim faith - reluctantly going to mosque (although one is devout) eating of pork, chasing after white girls etc. Cultural hybr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thers constant reference to Pakistan- cultural attac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kistani accent with English phrases like ‘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ood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6:03:13Z</dcterms:created>
  <dc:creator>#</dc:creator>
  <dc:description/>
  <dc:language>en-US</dc:language>
  <cp:lastModifiedBy>nahomi</cp:lastModifiedBy>
  <dcterms:modified xsi:type="dcterms:W3CDTF">2010-05-18T14:25:01Z</dcterms:modified>
  <cp:revision>8</cp:revision>
  <dc:subject/>
  <dc:title>British Asians in Cinema</dc:title>
</cp:coreProperties>
</file>